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DECB83-8E28-465E-B97A-9A5F59422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FCB215-9F1B-4B2B-AEE9-1B1E76B38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B11C8C-BBEE-48B1-A1D1-1C0715FF9D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5C9F50-7259-4AB3-9C2E-68211E05AE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DF1B6-5A4C-4AD4-8337-F26AE6687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9B68D-4E30-4FDF-9285-2B4F9DA66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CD2BC-F49D-4FFC-8C1C-B600626C9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D2A9F-0095-4DE1-B1BD-9AEA87AB4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3C364-751C-4FF7-81F1-F09E4A78F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9588D-12F2-49A7-94A0-263D3B3D3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6904D-5590-4FE7-9425-2B930E420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DA12A8-E5EB-424B-95F0-3EA27A17E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9B170-F67D-4604-9052-44965ED8A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38B66-5959-4ADD-B80E-3CC8ACB9E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39FC6-11AC-4A40-829C-DDD4335AC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3A7D9-537C-4B7C-8834-843AF1E77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8945E-765C-4B16-B379-8FA95F54D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40399B-97F2-452A-8B5C-D4D20A0C7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351CEB-4EA9-4472-BF35-2F64EF0E9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F27D69-F1D4-4659-9C15-CF70FA5E2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DF1475-D669-43A1-B505-769DD6F7B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72D2E3-987C-4700-934D-F3B8F3D84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937F6C-6743-447C-AC92-29B5B4B92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FE22E1-AF47-42A8-A2CD-CBD0658DC9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ED4A-0564-40E7-9935-BF0154E0DD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5937-417B-4FBA-842A-B6C211E118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English</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ct. 8</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genda</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0</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OL</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June 6 1642 an earthquake struck Port Royal jamaica and Port Royal was the home of many pirates and all the riches of the pirates fell into the sea along with the city so scuba divers are still looking for pirates treasure ther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alogy:family::etymology:_________</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ar:unendurable::see:___________</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ssignment</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Ch. 10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Packet on your 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Friday</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Ch. 1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n AR book with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3:23:59Z</dcterms:created>
  <dc:creator>VMS</dc:creator>
  <dc:description/>
  <dc:language>en-US</dc:language>
  <cp:lastModifiedBy>VMS</cp:lastModifiedBy>
  <dcterms:modified xsi:type="dcterms:W3CDTF">2009-10-08T16:01:55Z</dcterms:modified>
  <cp:revision>2</cp:revision>
  <dc:subject/>
  <dc:title>English</dc:title>
</cp:coreProperties>
</file>